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F051-F229-4DD2-8A3B-CB800A744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Base, grounded in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is shared by a community of profess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knowledge is implemented at the intersection of theory and practice: Dialogue between th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s exercise autonomy and ju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is influenced by both technical and moral ju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acher, of course, has the greatest bearing -- demonstrated time and again, including in Robert Marzano’s meta-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A17-E6B2-4A01-800E-32FB8DDE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F0E-4B74-4F4C-BEC7-F61D9866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C84-420F-4053-8C95-BFE6EA82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4AD-915E-4927-B414-1B3A7656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904-6963-49FE-B221-306FAA4B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977-CE31-4007-9F2B-6D63CA4C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D1D-8281-4ECD-96E6-5BFF41E4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238-9B47-4169-85D9-E5659962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EA4-B217-482C-A15F-752FD2FE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B39-A308-46CA-AD7B-6676610C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BC9-75EF-436C-9A4F-A9D9399D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51E-C5AE-4412-B9F1-BEE3CB6D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3522-3B9E-458B-BBF6-24CB0E4B2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Teaching and Learning Committe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At Summit teaching </a:t>
            </a:r>
            <a:r>
              <a:rPr b="0" lang="en-US" sz="4000" spc="-1" strike="noStrike" u="sng">
                <a:solidFill>
                  <a:srgbClr val="ffd524"/>
                </a:solidFill>
                <a:uFillTx/>
                <a:latin typeface="Arial"/>
              </a:rPr>
              <a:t>is</a:t>
            </a: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ffd524"/>
                </a:solidFill>
                <a:latin typeface="Arial"/>
              </a:rPr>
              <a:t>Inspiring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Next Steps:</a:t>
            </a: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Establish next meeting dat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Identify and join professional organiz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Read chapters 1 and 8 from Best Practic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Conference/workshop/experience that feeds your TLC r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d524"/>
                </a:solidFill>
                <a:latin typeface="Arial"/>
              </a:rPr>
              <a:t>Inspiring Learning</a:t>
            </a: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looks l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85136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Teaching is </a:t>
            </a:r>
            <a:br>
              <a:rPr sz="4000"/>
            </a:br>
            <a:r>
              <a:rPr b="0" i="1" lang="en-US" sz="4000" spc="-1" strike="noStrike">
                <a:solidFill>
                  <a:srgbClr val="ba3319"/>
                </a:solidFill>
                <a:latin typeface="Arial"/>
              </a:rPr>
              <a:t>difficult, nuanced and complex</a:t>
            </a: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and requires constant work to enhance and impr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Teaching is a profess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ba3319"/>
                </a:solidFill>
                <a:latin typeface="Arial"/>
              </a:rPr>
              <a:t>knowledge base</a:t>
            </a: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community of professionals</a:t>
            </a:r>
            <a:br>
              <a:rPr sz="4000"/>
            </a:br>
            <a:r>
              <a:rPr b="0" lang="en-US" sz="4000" spc="-1" strike="noStrike">
                <a:solidFill>
                  <a:srgbClr val="ba3319"/>
                </a:solidFill>
                <a:latin typeface="Arial"/>
              </a:rPr>
              <a:t>theory and practice</a:t>
            </a: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autonomy and judg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524"/>
                </a:solidFill>
                <a:latin typeface="Arial"/>
              </a:rPr>
              <a:t>What kind of professional learning community do we want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d524"/>
                </a:solidFill>
                <a:latin typeface="Arial"/>
              </a:rPr>
              <a:t>Trust</a:t>
            </a:r>
            <a:br>
              <a:rPr sz="3600"/>
            </a:br>
            <a:r>
              <a:rPr b="0" lang="en-US" sz="3600" spc="-1" strike="noStrike">
                <a:solidFill>
                  <a:srgbClr val="ba3319"/>
                </a:solidFill>
                <a:latin typeface="Arial"/>
              </a:rPr>
              <a:t>Self-directed inquiry</a:t>
            </a:r>
            <a:br>
              <a:rPr sz="3600"/>
            </a:br>
            <a:r>
              <a:rPr b="0" lang="en-US" sz="3600" spc="-1" strike="noStrike">
                <a:solidFill>
                  <a:srgbClr val="ffd524"/>
                </a:solidFill>
                <a:latin typeface="Arial"/>
              </a:rPr>
              <a:t>Reflection on practice</a:t>
            </a:r>
            <a:br>
              <a:rPr sz="3600"/>
            </a:br>
            <a:r>
              <a:rPr b="0" lang="en-US" sz="3600" spc="-1" strike="noStrike">
                <a:solidFill>
                  <a:srgbClr val="ba3319"/>
                </a:solidFill>
                <a:latin typeface="Arial"/>
              </a:rPr>
              <a:t>Collaboration &amp; informed conversation</a:t>
            </a:r>
            <a:br>
              <a:rPr sz="3600"/>
            </a:br>
            <a:r>
              <a:rPr b="0" lang="en-US" sz="3600" spc="-1" strike="noStrike">
                <a:solidFill>
                  <a:srgbClr val="ffd524"/>
                </a:solidFill>
                <a:latin typeface="Arial"/>
              </a:rPr>
              <a:t>Community of lear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What empirical studies and theoretical research show </a:t>
            </a:r>
            <a:r>
              <a:rPr b="0" lang="en-US" sz="4000" spc="-1" strike="noStrike">
                <a:solidFill>
                  <a:srgbClr val="ba3319"/>
                </a:solidFill>
                <a:latin typeface="Arial"/>
              </a:rPr>
              <a:t>enhances student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Disseminate Research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Explore and Refine Current Practic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Focus on Technology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Facilitate Coherence in Curriculum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Discussion by Division and by Subject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Common language and</a:t>
            </a: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common conceptual framework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ba3319"/>
                </a:solidFill>
                <a:latin typeface="Arial"/>
              </a:rPr>
              <a:t>the power of structured conversation to transform teachers’ professional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22:52:31Z</dcterms:created>
  <dc:creator>Summit School</dc:creator>
  <dc:description/>
  <dc:language>en-US</dc:language>
  <cp:lastModifiedBy>Summit School</cp:lastModifiedBy>
  <dcterms:modified xsi:type="dcterms:W3CDTF">2009-10-01T21:59:09Z</dcterms:modified>
  <cp:revision>9</cp:revision>
  <dc:subject/>
  <dc:title>At Summit teaching is  Inspiring Learning</dc:title>
</cp:coreProperties>
</file>